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37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FF5-0737-43F2-B81B-A7162DAC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1F1-05E6-460E-9963-6E875184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61B-3F67-4935-A4DD-769E765B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AF0-8671-4125-8FC5-19CAA5E9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C4C-7FDC-4429-AD39-DCEE5281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771-CC27-4658-8933-0A91AC8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313-0A88-47F3-86DB-F18BE96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F3E-CD36-4454-88AC-550A5FE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F79-381D-4F3D-B788-0FEAF932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71C-4CE9-4075-A3C7-51CCA9F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616-8DEB-4FEE-8035-2BE3BAD6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589-62CD-4B97-AFB3-7EFA4B9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67B-D469-4E66-B1B2-D65C6073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Работа с одаренными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8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черчения и 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агина Валент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115920"/>
            <a:ext cx="8466120" cy="66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33336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ы деталей с разрезом в изометрическ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3480" y="63072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р 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334120" cy="323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6CA-53AF-4112-B292-238057875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554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249552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580-E7A3-4816-A6DE-19AB6BD46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2828880" cy="30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65440" y="162864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сположение овалов в из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619-44E5-4B0D-8B2E-B2AEC9E63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15920"/>
            <a:ext cx="8466120" cy="66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838400" cy="561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76F-F65F-44FC-A19D-2B98A100F2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15920"/>
            <a:ext cx="8466120" cy="66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4438440" cy="52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2B2-B42B-404B-9D6D-0981D3DB0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агменты проекта «Благоустройство школьной территор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57400" cy="482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59480" y="1413000"/>
            <a:ext cx="401616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8E0-64D7-4401-8EE6-AE470FFB7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зец м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40360" y="2421000"/>
            <a:ext cx="4572000" cy="28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02256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9E0-C3B0-4682-AD61-1516D08A2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менты парка отды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12944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054-CC5A-4244-9C1B-3BD5C56A32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ы уче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384720" cy="221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80000" y="4842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39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3554280"/>
            <a:ext cx="5111640" cy="33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89B-8D6C-40EE-82F0-667404E376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овы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689280" cy="263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6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672000" cy="275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38876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DC2-42B3-4E6C-82C8-783BD551A5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Одаренный ребен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арённые дети – это дети, обладающие врождёнными высокими интеллектуальными, физическими, художественными, творческими, коммуникативными способ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пособности не просто проявляются в труде, они формируются, развиваются, расцветают в труде или гибнут в бездейств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ть способности это значит, вооружить ребенка способом деятельности, дать ему в руки ключ, принцип выполнения работы, создать условия для выявления и расцвета его ода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276-9D1A-4B23-AAE0-FFA8E5448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0" y="981000"/>
            <a:ext cx="5754600" cy="5045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32360" y="476280"/>
            <a:ext cx="3203640" cy="2444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3114720" cy="37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B11-FC99-4E14-B4FE-1B89A07CEC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2920" y="3789360"/>
            <a:ext cx="428472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13280" cy="368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572000" y="3402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966-2ACB-487A-B868-9E1E3AD49F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849920" cy="659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9C6-3CD3-4C21-BB63-167FC8447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5D7-326F-4C7E-8485-BA17507F1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«Образ русских дерев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232-B220-407A-B367-9398618C00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«Образ русских дерев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251-205B-4846-8AB9-B7FCCE1B61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 «Уклад жизни крестьянской семьи на Рус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24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579-D197-4673-952F-076D97E87B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Результаты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одская олимпиада по черчению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г. 1 – мес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 г.  1, 2, 3 – м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 г. 3 –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народная конференция в НГИ 2007-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денческая конференция в Н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г. 3-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одской конкурс «Шаг в будущее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, 2011 г.: призо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токонкурс «Мой заветный уголок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 г. -3 место в номинации «Природа в горо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стной конкурс«Эра фантастики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 г. 5,6 – ме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 г. 3 –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A2D-81A0-4114-8D4A-D842F244D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Участие в выстав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ка в мэрии. Макеты деревень. 2007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ождественские чтения». 2008-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клонимся великим тем годам»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курс открыток к 65-летию Победы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й любимый дворик»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ождественские фантазии»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Бездна звезд»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Чернобыль – глазами детей».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ка « Учитель-ученик». 2011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AB2-B53F-46E5-A7C9-F2BAA5A2FE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в сборнике НГИ «Нравственное воспитание учащихся - актуальная проблема в средней школе», 200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в сборнике НГИ: «Формирование творчески созидательной личности в процессе проектирования на уроках черчения в общеобразовательной школе»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в сборнике НГИ: «И.К.Т. на уроках в общеобразовательной школе»,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в сборнике НГИ: «Проектирование на уроках черчения»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в сборнике НГИ «Проектирование с использованием И.К.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F2C-A9E8-440D-8DA2-75215395CD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Формы выявления одаренных дет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аблю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общ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анкетирование, бес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олимпиады, конкур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иск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A14-4498-4BDA-8F83-E49AA0CFC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B37-E0FF-4F4F-95C4-F9D89A1910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Задачи учителей-предме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явление одарённых детей по своим предме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ректировка программ и тематических планов для работы с одарёнными детьми, включение заданий повышенной сложности, творческого, научно-исследовательского уров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ация индивидуальной работы с одарённы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ка учащихся к олимпиадам, конкурсам, викторинам, конференциям школьного и район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бор и оформление в течение года достижений одарённых детей для предъявления на общешкольной ежегодной конфере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формление своего опыта работы с одарёнными детьми в виде творческого отчёта для предъявления на педсов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в учебных кабинетах картотеки материалов повышенного уровня сл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2FD-9812-4762-90F0-937EF3A0C9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Творческие экзаменацион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904-A966-4539-A9C2-4BB6DED6C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030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ОЕКТ: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«Аксонометрические проекции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3644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проекта: информационный, 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: Перелётова Дарья. 11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0464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ОУ «Средняя общеобразовательная школа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3120" y="5229360"/>
            <a:ext cx="525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уководитель: Кулагина В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ширины д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51040"/>
            <a:ext cx="8015040" cy="566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2611080" y="4118040"/>
            <a:ext cx="4680" cy="84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638440" y="4946400"/>
            <a:ext cx="161928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630520" y="4116240"/>
            <a:ext cx="8096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46640" y="3246120"/>
            <a:ext cx="46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43400" y="325764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57720" y="3252960"/>
            <a:ext cx="4680" cy="17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89720" y="4059000"/>
            <a:ext cx="1423800" cy="83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908480" y="2383920"/>
            <a:ext cx="9720" cy="167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199280" y="2793960"/>
            <a:ext cx="0" cy="8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184880" y="2379600"/>
            <a:ext cx="7286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484680" y="3995640"/>
            <a:ext cx="468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81800" y="3601800"/>
            <a:ext cx="7063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171880" y="4506840"/>
            <a:ext cx="43488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173320" y="3670200"/>
            <a:ext cx="43488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011040" y="3674880"/>
            <a:ext cx="435240" cy="43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017880" y="2823840"/>
            <a:ext cx="434880" cy="43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828600" y="2815920"/>
            <a:ext cx="435240" cy="43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397480" y="4262040"/>
            <a:ext cx="109872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75160" y="3346200"/>
            <a:ext cx="109872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102360" y="2963520"/>
            <a:ext cx="109872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10120" y="1750680"/>
            <a:ext cx="109836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091200" y="2160360"/>
            <a:ext cx="109872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C0D-B21C-4F59-9D41-5616E72E2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44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несение раз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1360" y="507960"/>
            <a:ext cx="8015040" cy="566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7C4-652E-4D60-9E8A-97DB37FFC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0e5"/>
            </a:gs>
            <a:gs pos="50000">
              <a:srgbClr val="ffffff"/>
            </a:gs>
            <a:gs pos="100000">
              <a:srgbClr val="fce0e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4160" y="260280"/>
            <a:ext cx="502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МОУ «Средняя образовательная школа №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1341360"/>
            <a:ext cx="4880160" cy="157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«Аксонометрические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деталей с разрез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7280" y="3284640"/>
            <a:ext cx="483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Тип проекта: информационный, тво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000" y="3716280"/>
            <a:ext cx="494316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Исполнитель: Жукова Анастасия 9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149720"/>
            <a:ext cx="3342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Руководитель: Кулагина В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2880" y="6237360"/>
            <a:ext cx="834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4E7-8362-416D-A05C-685A20D54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5:40:49Z</dcterms:created>
  <dc:creator>User</dc:creator>
  <dc:description/>
  <dc:language>en-US</dc:language>
  <cp:lastModifiedBy>Elena</cp:lastModifiedBy>
  <dcterms:modified xsi:type="dcterms:W3CDTF">2011-11-13T19:11:16Z</dcterms:modified>
  <cp:revision>19</cp:revision>
  <dc:subject/>
  <dc:title>Слайд 1</dc:title>
</cp:coreProperties>
</file>